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67A-BB88-4834-BB2C-1A65691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2CD-F173-4DBB-BC07-389FFBC2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218-B5EA-4D41-8A06-CCC76FA4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C82-B993-41E6-B537-362610A3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F7DE-64A0-4993-9A2E-26D6BA3C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7A40-4656-4B5F-A1FC-75179836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187-8696-4317-8B7D-1239EC75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A426-3658-4040-AEF6-E52BF53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D4D-A401-40A7-8583-2D3AC36D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23EF-4935-46C0-9C47-6383F982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1C2A-7FA1-4CAD-8E22-3CFBAE6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15A-4050-4F42-834E-FA3D9C4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3F62-34AA-442C-B5E2-CE3DADC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6283-D920-4831-9B13-795F247B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427C-9C1A-41A4-9815-9932239D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BB8E-F546-441E-B0E9-E6BEB10C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E01D-2020-4A2A-A009-FFE552B0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9BB-8358-4025-808E-BDD21791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D7A-1FEA-45B9-A557-979E7956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B96-FC51-4005-8CA4-16FBE4B3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DE7-A241-4FFA-9969-DEDC30E7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A51-B826-408E-A797-410CF75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BC4-1035-4D36-85F8-D16B909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372-3694-47CF-988F-D62D0964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C62-2482-4F38-B300-958616DF4E56}" type="datetime">
              <a:rPr b="0" lang="zh-TW" sz="10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DFF2-0DF8-4092-A429-24689FCE216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075E-6400-4142-A6BE-5A9F773CD83C}" type="datetime">
              <a:rPr b="0" lang="zh-TW" sz="1000" spc="-1" strike="noStrike">
                <a:solidFill>
                  <a:srgbClr val="000000"/>
                </a:solidFill>
                <a:latin typeface="Arial"/>
              </a:rPr>
              <a:t>115/0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BA18-9B5B-4870-8A03-152AD09E2B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颱風浣熊（0801）在二零零八年四月十五日至二十日的路徑圖"/>
          <p:cNvPicPr/>
          <p:nvPr/>
        </p:nvPicPr>
        <p:blipFill>
          <a:blip r:embed="rId1"/>
          <a:stretch/>
        </p:blipFill>
        <p:spPr>
          <a:xfrm>
            <a:off x="639720" y="561960"/>
            <a:ext cx="7819920" cy="6276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61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Typhoon Neog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5705640"/>
            <a:ext cx="1800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5/04/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8400" y="2744640"/>
            <a:ext cx="151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19/04/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97320" y="261144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C40-DBE6-483D-8F72-0E4D3AB0EC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gsSFPNPPTTWD480_08032900N" descr=""/>
          <p:cNvPicPr/>
          <p:nvPr/>
        </p:nvPicPr>
        <p:blipFill>
          <a:blip r:embed="rId1"/>
          <a:stretch/>
        </p:blipFill>
        <p:spPr>
          <a:xfrm>
            <a:off x="6000840" y="383868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44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SM Forecast Initialized at 2008 0329 00 U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576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sSFPNPPTTWD384_08032900N" descr=""/>
          <p:cNvPicPr/>
          <p:nvPr/>
        </p:nvPicPr>
        <p:blipFill>
          <a:blip r:embed="rId2"/>
          <a:stretch/>
        </p:blipFill>
        <p:spPr>
          <a:xfrm>
            <a:off x="2941560" y="117324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86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gsSFPNPPTTWD408_08032900N" descr=""/>
          <p:cNvPicPr/>
          <p:nvPr/>
        </p:nvPicPr>
        <p:blipFill>
          <a:blip r:embed="rId3"/>
          <a:stretch/>
        </p:blipFill>
        <p:spPr>
          <a:xfrm>
            <a:off x="6037200" y="1152360"/>
            <a:ext cx="3143160" cy="2686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8576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sSFPNPPTTWD432_08032900N" descr=""/>
          <p:cNvPicPr/>
          <p:nvPr/>
        </p:nvPicPr>
        <p:blipFill>
          <a:blip r:embed="rId4"/>
          <a:stretch/>
        </p:blipFill>
        <p:spPr>
          <a:xfrm>
            <a:off x="-11160" y="383868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19520" y="40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sSFPNPPTTWD456_08032900N" descr=""/>
          <p:cNvPicPr/>
          <p:nvPr/>
        </p:nvPicPr>
        <p:blipFill>
          <a:blip r:embed="rId5"/>
          <a:stretch/>
        </p:blipFill>
        <p:spPr>
          <a:xfrm>
            <a:off x="2916360" y="3838680"/>
            <a:ext cx="3143160" cy="268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41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326232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4720" y="3255840"/>
            <a:ext cx="93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591984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592596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92596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CD0-A8A2-4B52-B6BD-CD28B61EE3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220-7A05-40E1-A338-DF7D83C94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12:23Z</dcterms:created>
  <dc:creator>smlee</dc:creator>
  <dc:description/>
  <dc:language>en-US</dc:language>
  <cp:lastModifiedBy>HKO</cp:lastModifiedBy>
  <dcterms:modified xsi:type="dcterms:W3CDTF">2008-12-16T08:09:28Z</dcterms:modified>
  <cp:revision>550</cp:revision>
  <dc:subject/>
  <dc:title>Progress in Adaptation of GSM</dc:title>
</cp:coreProperties>
</file>